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293-24B3-46DD-9B94-03069DDD9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74BA-0D08-4EF0-AE04-3C8C166A0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3EDD-C6C2-4D91-95D4-B737196AE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7586-DE8C-48CD-8930-E34E990D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4F31-6B34-479E-B4D1-9B762DC2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3A434-B07C-489B-8508-B341B4103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C9570-ECB4-4191-80BE-74ABD8305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73C5-1DAB-4768-B1AA-3BB216CC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0B86F-6A77-4D7A-A7EC-B1BC854C6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16B2-A26C-4BED-B0D9-E4C189DA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72F92-BFE8-483D-A358-3C6DA059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DDCF-B2C1-4FEA-B2A2-3FBFB4F01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42353-A877-4CF1-B230-03A42276E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2E16E-FEA7-4F2E-8DC9-44E7B74FE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C3F4-38FD-49D8-AA40-97BC533E0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47DE-442C-4D42-AE83-00C3FA8F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F6C58-9877-43DC-A652-01C3D2E6D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9775-AA10-471B-801B-2EB3860B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DC4E-70A3-482F-B7B1-A2DE24370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10619-57A3-4C07-90F5-C23447A5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3CD3-BB8C-4FE2-9113-8BA28D74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9D2-7BEE-47AD-9FDC-F5FE9589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7B1A-70F8-4D51-A275-39EEF2B3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CB55-B621-4324-9353-86CA5A7C8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43A7A-DE5A-4679-A727-89EE427A35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36A8-528C-4F08-8A05-7762513794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Arial"/>
              </a:rPr>
              <a:t>Library </a:t>
            </a:r>
            <a:br>
              <a:rPr sz="4000"/>
            </a:b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2819520"/>
            <a:ext cx="723924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igh F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52600" indent="-552600">
              <a:lnSpc>
                <a:spcPct val="170000"/>
              </a:lnSpc>
              <a:spcBef>
                <a:spcPts val="799"/>
              </a:spcBef>
              <a:buClr>
                <a:srgbClr val="006666"/>
              </a:buClr>
              <a:buSzPct val="70000"/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hat else do you think is important in the library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6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check out? (How many, returning books etc.)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5526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04812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 browsing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magazin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books on tape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riser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e table area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illows or comfy chair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cf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ubstitutes?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Essential Agreements</a:t>
            </a:r>
            <a:br>
              <a:rPr sz="3200"/>
            </a:b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What do we agree on about: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2514600"/>
            <a:ext cx="670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6:04:28Z</dcterms:created>
  <dc:creator> </dc:creator>
  <dc:description/>
  <dc:language>en-US</dc:language>
  <cp:lastModifiedBy> </cp:lastModifiedBy>
  <dcterms:modified xsi:type="dcterms:W3CDTF">2007-08-31T16:45:12Z</dcterms:modified>
  <cp:revision>2</cp:revision>
  <dc:subject/>
  <dc:title>Essential Agreements</dc:title>
</cp:coreProperties>
</file>