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55D41-E8B7-40A6-9E18-44C531992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A42-877C-4435-9503-EAA76962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E9A9-0B66-400B-9ECB-CE2FBF58F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88FF-F8FE-4470-B096-35333DCD4F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44682-B082-4003-80B6-EDE391F55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93726-43EB-48D0-8E5A-F256A27F8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F8286-50D1-43F8-A76D-D8F14664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C7EF-16E8-461E-B94B-C56712B3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D6289-D217-4D91-9D83-3FF5115D8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DF16-376C-4F5E-BC26-69A214620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54699-7D53-4871-BB94-FCE2C720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87C6-5AB6-43BB-8D31-EAAD8D23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7F7B4-4F9D-440A-B577-30FDB21C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D127-EDAD-43AA-BC80-7AACDC375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6B84A-FCA6-4F4C-8D52-1A0CE29AD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2EDE-CE54-44B7-A0AD-EEEB8B5F1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1F8A-97E3-4C04-8014-2A65F034D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9D8-DCEF-458B-937B-B83F2B007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E7A5-C117-4C11-8A80-4061ABB9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9AE6-FE71-4367-9D91-394A63BAD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2B3A-FD1A-4B25-ACB0-24D4DA7F3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295D-8D7A-43B4-AD10-8082FB7F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C368-0A84-47BA-AF3C-C650D8C23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3C2F-45C3-4D45-BEA0-FDE4EF07D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BE07-F24C-4516-B4F0-9AD638AED17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63AE-4FFC-428C-935C-5000790959F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Library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819520"/>
            <a:ext cx="7239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 F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else do you think is important in the libra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check out? (How many, returning books etc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brow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 on tap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iser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able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llows or comfy chai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itut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4:28Z</dcterms:created>
  <dc:creator> </dc:creator>
  <dc:description/>
  <dc:language>en-US</dc:language>
  <cp:lastModifiedBy> </cp:lastModifiedBy>
  <dcterms:modified xsi:type="dcterms:W3CDTF">2007-08-31T16:45:12Z</dcterms:modified>
  <cp:revision>2</cp:revision>
  <dc:subject/>
  <dc:title>Essential Agreements</dc:title>
</cp:coreProperties>
</file>