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CE40-E1AD-460D-924C-B0FCDADF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D6FB-7918-4348-A29F-74DEF4B8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BFDE-F331-4471-9CF0-68BCAB5F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F747-1AB4-46B1-A071-E3A3DAE4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314E-8078-47D9-8BF5-6E593144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8708-8D4D-4681-94BD-C8ECAEA8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6843-3DAC-4585-B5EC-CE27450F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E98B-A9AB-4374-B288-FAA77E85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5127-ABD3-4C90-A3AB-84C63560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1727-7E9B-4098-B3F0-3124668A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8930-DAD1-4991-AE0B-C140A545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B86-8DA9-4141-96B7-F7681A17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40E4-BE51-43B1-A29C-568956C9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7340-74D8-48D6-B3F0-6823B480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7706-3197-4F72-8639-008EF7AA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0F48-2F56-48D1-A9B9-2BBBADA5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BD76-896F-4056-932B-DE8B4457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2C98-6B26-401E-8ABF-B390EDCB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822D-47E6-49CC-A021-BB3001CA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3ED0-8BE7-430F-A776-F93EDBD7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20C4-A7AF-4BFA-8934-3F95C530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C4BA-5D5C-4088-9E3C-DB43F3FB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C57E-24F8-4EE8-A677-C67A64AD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EEBC-CF8D-4C3A-BBF9-24D8877F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0F3A-1CF4-4F88-8580-FB144F910C8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6FC6-7BC0-4C29-BB1E-E31AAC1E823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Library </a:t>
            </a: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2819520"/>
            <a:ext cx="72392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52600" indent="-552600">
              <a:lnSpc>
                <a:spcPct val="17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igh F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7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else do you think is important in the library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6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 check out? (How many, returning books etc.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30481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 browsing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gazin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s on tap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riser area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table area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illows or comfy chair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bstitut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6:04:28Z</dcterms:created>
  <dc:creator> </dc:creator>
  <dc:description/>
  <dc:language>en-US</dc:language>
  <cp:lastModifiedBy> </cp:lastModifiedBy>
  <dcterms:modified xsi:type="dcterms:W3CDTF">2007-08-31T16:45:12Z</dcterms:modified>
  <cp:revision>2</cp:revision>
  <dc:subject/>
  <dc:title>Essential Agreements</dc:title>
</cp:coreProperties>
</file>