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A8F-F4A7-40A0-B975-18D70DCB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166-6ADB-408B-B55C-F868091C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AE9-2B62-45B9-9C05-FF2C9A90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AE4-A0B9-4F85-905D-E7E9F002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DCD6-D056-4909-B8EF-C7AA70A4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3E1B-947A-4FD4-9649-D0238E56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D783-1166-4B5A-A660-00EC573C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6CDF-D588-428E-868C-2120AE4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CBEA-2411-4870-838F-51E99482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683D-E17F-49F5-96AE-29FAE990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EFE1-B6BF-40FA-B83B-0FAAFE30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90A-74CA-4191-8134-6B68E75B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912A-751F-41F8-811F-4F4CB130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9B03-BC0E-4AC2-9995-90612D1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99CD-EC22-4AA6-A8A1-5DD94BBD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107A-3E67-470C-BE13-1EA88FB1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5D32-D100-4C9A-BA05-4AAD887A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F37-80E6-48F2-8D14-F84FA9F5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366-DC3B-4FE1-A035-8823FD20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AA4-376D-4E49-9916-08001D4C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188-EB63-4653-B682-C6DEE03C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BED-F520-48A0-AE64-1B22994E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F90-4EBF-4998-B0ED-56F1B67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CA4-F895-45D1-A321-AD3ED86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EB52-D4FA-4837-AA9C-E16B192A4C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3F39-70F3-45AC-A817-A859793892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Library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2819520"/>
            <a:ext cx="7239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gh F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else do you think is important in the librar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check out? (How many, returning books etc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0481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brows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 on tap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iser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able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llows or comfy chai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stitut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04:28Z</dcterms:created>
  <dc:creator> </dc:creator>
  <dc:description/>
  <dc:language>en-US</dc:language>
  <cp:lastModifiedBy> </cp:lastModifiedBy>
  <dcterms:modified xsi:type="dcterms:W3CDTF">2007-08-31T16:45:12Z</dcterms:modified>
  <cp:revision>2</cp:revision>
  <dc:subject/>
  <dc:title>Essential Agreements</dc:title>
</cp:coreProperties>
</file>